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58C-D593-4AC9-854F-BE3A2ED3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C3C-AA00-4009-9A8F-59E3112E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74E-550A-42ED-8346-814B8210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076-E36B-461E-9B50-EB6C16CD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56C-1B53-4199-A43A-7A207680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05D-36ED-4AE1-8A9B-3A0E1141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383-62DF-4E28-BC42-DC8D2774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5E0-23CC-40F8-80AC-DEAF34F4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381-97B7-44DA-8075-BE6261F6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259-765E-425A-8042-1E638F92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052-B0BF-4372-8699-5D1BD32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2FB-E4ED-4214-BF50-A3A9AD1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21D-B021-498D-8172-D98957C77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add narration to a slides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lide to be nar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Record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et Micropho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Narr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Narration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Current Slide or Firs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– Click – Talk –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clearly into the 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Pause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lack exit screen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ing Nar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on’t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timing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soun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narration will overrid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1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34:21Z</dcterms:created>
  <dc:creator>klanders</dc:creator>
  <dc:description/>
  <dc:language>en-US</dc:language>
  <cp:lastModifiedBy>klanders</cp:lastModifiedBy>
  <dcterms:modified xsi:type="dcterms:W3CDTF">2008-01-18T21:32:06Z</dcterms:modified>
  <cp:revision>9</cp:revision>
  <dc:subject/>
  <dc:title>Adding Narration to a Slideshow</dc:title>
</cp:coreProperties>
</file>